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F9563-FB34-41EA-A93E-FF87D9F1E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EB4E-A0A5-4DBE-B16E-DE071E3A0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166FE-CA6B-47D8-8CC9-A1D892C09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9825A-E8D4-4B46-AD7F-8FE5AAA2D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1E8C8-9DCE-4595-8191-CE6FA815A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36E68-8FD8-49B2-8338-756144EEB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DE54E-A172-4F64-8B1E-EF16F3DCD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3BE1F-6608-4F6F-8883-77758BCE0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3F3EC-C39E-4F2C-841B-2B1F17E2B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B5791-E568-443F-84BC-7B0A1ED20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B4060-2032-445C-9C98-70DA0B0DC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24B8-47F5-49FD-8F89-32B22517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A1ACC-EA24-4E70-A551-2E7B2D865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277B9-FD97-4D99-A7C5-E6B0D1996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23066-C7D9-4CDB-B0D4-FDDF5DFA6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BF1D5-4A5B-4D63-9CD5-AD438C3A3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94AD1-557D-4EB4-AD84-F4DDDF3A8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E398D-5C83-41C9-8C68-54B99C24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4FE6-45D8-4834-A759-85337E937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B3498-84F5-4BCA-8B23-70A0A550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760C-1B59-47F6-B029-925EE9F44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44911-C01E-4E75-B34F-D95FD01E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CA7C-D4B4-40A1-A748-CE60C653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0750F-C9B4-4EB6-8200-726C192C5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9C9B-2210-4E15-A542-BCBB264C1F69}"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6736-034E-4C5F-AB75-E9663707348F}"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Lucida Grande"/>
              </a:rPr>
              <a:t>Windows Movie Maker</a:t>
            </a:r>
            <a:r>
              <a:rPr b="0" lang="en-US" sz="3200" spc="-1" strike="noStrike">
                <a:solidFill>
                  <a:srgbClr val="5d2204"/>
                </a:solidFill>
                <a:latin typeface="Arial"/>
              </a:rPr>
              <a:t> </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endParaRPr b="0" lang="en-US" sz="2400" spc="-1" strike="noStrike">
              <a:solidFill>
                <a:srgbClr val="212164"/>
              </a:solidFill>
              <a:latin typeface="Arial"/>
            </a:endParaRPr>
          </a:p>
          <a:p>
            <a:pPr marL="27432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Windows Movie Maker?</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Windows Movie Maker to tell a sto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save a movie projec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a:t>
            </a:r>
            <a:r>
              <a:rPr b="0" lang="en-US" sz="2400" spc="-1" strike="noStrike">
                <a:solidFill>
                  <a:srgbClr val="212164"/>
                </a:solidFill>
                <a:latin typeface="Lucida Grande"/>
              </a:rPr>
              <a:t>Windows Movie Maker</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a:t>
            </a:r>
            <a:r>
              <a:rPr b="0" lang="en-US" sz="2400" spc="-1" strike="noStrike">
                <a:solidFill>
                  <a:srgbClr val="212164"/>
                </a:solidFill>
                <a:latin typeface="Lucida Grande"/>
              </a:rPr>
              <a:t>Windows Movie Maker</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 </a:t>
            </a:r>
            <a:r>
              <a:rPr b="0" lang="en-US" sz="2400" spc="-1" strike="noStrike">
                <a:solidFill>
                  <a:srgbClr val="212164"/>
                </a:solidFill>
                <a:latin typeface="Lucida Grande"/>
              </a:rPr>
              <a:t>Windows Movie Maker</a:t>
            </a:r>
            <a:r>
              <a:rPr b="0" lang="en-US" sz="2400" spc="-1" strike="noStrike">
                <a:solidFill>
                  <a:srgbClr val="212164"/>
                </a:solidFill>
                <a:latin typeface="Arial"/>
              </a:rPr>
              <a:t>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 this lesson)</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 (and additional software to import movi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s skill will focus on:</a:t>
            </a:r>
            <a:endParaRPr b="0" lang="en-US" sz="28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importing digital video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editing digital video (trim clips, split clips, and add clips to the timelin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movie project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Lucida Grande"/>
              </a:rPr>
              <a:t>(see the tutorial for lesson 1 for specific direction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a:t>
            </a:r>
            <a:r>
              <a:rPr b="0" lang="en-US" sz="2400" spc="-1" strike="noStrike">
                <a:solidFill>
                  <a:srgbClr val="212164"/>
                </a:solidFill>
                <a:latin typeface="Lucida Grande"/>
              </a:rPr>
              <a:t>Windows Movie Maker</a:t>
            </a:r>
            <a:r>
              <a:rPr b="0" lang="en-US" sz="2400" spc="-1" strike="noStrike">
                <a:solidFill>
                  <a:srgbClr val="212164"/>
                </a:solidFill>
                <a:latin typeface="Arial"/>
              </a:rPr>
              <a:t>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3-06T17:09:18Z</dcterms:modified>
  <cp:revision>39</cp:revision>
  <dc:subject/>
  <dc:title>Workshop Title</dc:title>
</cp:coreProperties>
</file>